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75B-E12A-4233-A413-9D0CFB8D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922-70F3-47BA-AA63-86C85BA3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CF9-9BA0-42A1-96C3-91BD634F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F51-24CC-461A-86AB-36648392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C59-703C-4B8E-8C63-9378FA11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68C-9656-4268-A1DA-064A2E5A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A21-9E39-4AA9-B6CF-DCF208FD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7E2-5D1A-4103-AC04-795E7F63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A73-85D8-46EA-A921-B118952B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AA6-D482-41F0-91BB-3FC2D7A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BC9-C96C-46F2-97DB-085216A9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EA2-2F21-4A08-949F-A27A0A93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419F-5AB1-4853-9EA1-B67653DD4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76560" y="533160"/>
            <a:ext cx="4267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зия: природное и культурное историческое наследие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(часть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4640" y="533376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У «Гимназия №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. Белгорода – Федорова О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4419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ман. Бедуинка носит покрывало и маску на лице – бурку. В Омане скрывать лицо означает также выражать чувство женского достоинства и приверженность традиционной скром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71960" y="0"/>
            <a:ext cx="417204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мбоджа. Веселый смех при ежедневном  омовении – буддистские послушники у храма  Бангкок в Ангк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и.  Культурные традиции особенно живы в классическом  индонезийском танце. Подкупает грация движений: акцент делается прежде всего руками и верхней частью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0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32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5943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пония.  В богатом традициями императорском городе Киото верны древним ценностям – барабаны и флейты – непременные  инструменты в классической религиозной японской му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07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790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йцы любят яркие одежды и ароматную еду. На этом прилавке в южно-индийском Мисоре разноцветные порошки и приправы  разложены словно деко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8769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ские отшельники – ямабуси, или ямабуши,- в типичной шапочке, удерживаемойтолько одной веревочкой, шароварах до колен, с большим висячим барабаном - тай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624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0" y="21477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181120" y="1066680"/>
            <a:ext cx="3962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нконг.  Даже в суперсовременной  метрополии  встречаются женщины в национальном костюме хакка – коренной народности Китая, которая 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Живет на юге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292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562720" y="914040"/>
            <a:ext cx="3581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хрейн. Этот мужчина из древнего центра торговли между арабским миром и Индией носит традиционную одежду, которая защищает его от палящего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3392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иланд. Красочный образец причудливого головного убора – тюрбан этой девушки представляет собой сосуд из цветов. У лису, малой народности, живущей на севере Таиланда, его носят в праз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4828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пал. Аскет, представитель единственного государства, в котором индуизм является официальной религией.  На лоб наложены белила, посередине нанесена вертикальная полоса, что характеризует святого старца как приверженца бога Виш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29200" y="0"/>
            <a:ext cx="50148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76560" y="1828440"/>
            <a:ext cx="42670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пония. Типичный макияж гейши выделяет вишнево-красный рот на лице, покрытом белым тоном. Это должно скрыть индивидуальность и подчеркнуть сценический образ «женщины искус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143000"/>
            <a:ext cx="4572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тан. В королевстве на южных склонах Восточных Гималаев ламаизм – тибетский буддизм – государственная религия. Деревянные четки помогают этому монаху при молитве и чтении святых пис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я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бразный знак на лбу девушки символизирует отпечаток  ноги бога Вишну. Такой обильный макияж и столь богатые украшения используются во время религиозных праздников и традиционных театральных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нголия. Обветренное лицо степного жителя – казаха  из Монголии.   Казахи, преимущественно мусульмане, живущие на слабо заселенных просторах государства, являются этническим меньши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8796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1-03-04T20:31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